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9294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D5A1-BF89-424E-9E62-EFC688530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79000"/>
            <a:ext cx="823248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82324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760" y="3963600"/>
            <a:ext cx="82324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2E00-9176-4B5E-B2A0-D8D88D155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760" y="279000"/>
            <a:ext cx="823248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4017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7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5760" y="3963600"/>
            <a:ext cx="4017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7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F405-C720-46FB-A525-851EB426E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5760" y="279000"/>
            <a:ext cx="823248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2650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50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800" y="1600200"/>
            <a:ext cx="2650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760" y="3963600"/>
            <a:ext cx="2650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50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800" y="3963600"/>
            <a:ext cx="2650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6749-95D5-40BE-B902-A8541DF6D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5760" y="279000"/>
            <a:ext cx="823248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5760" y="1600200"/>
            <a:ext cx="8232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1A2F-6F95-4726-BCF0-60684FF1F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9000"/>
            <a:ext cx="823248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82324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B212-394B-4036-8416-68E19E2E7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9000"/>
            <a:ext cx="823248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401724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724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5002-8192-4A69-9085-4E0338081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760" y="279000"/>
            <a:ext cx="823248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0C1A-DE88-4FD7-BD66-DF83610C0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5760" y="279000"/>
            <a:ext cx="823248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99AD-5E89-4DEE-85C1-B71CFBDA8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9000"/>
            <a:ext cx="823248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4017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724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5760" y="3963600"/>
            <a:ext cx="4017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EB26-9681-4D66-8030-5F2D555E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79000"/>
            <a:ext cx="823248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401724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7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7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6AC4-BAF0-42D1-86BF-5CE518AF4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79000"/>
            <a:ext cx="823248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4017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7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760" y="3963600"/>
            <a:ext cx="82324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61D9-B3F9-47C9-86FA-7D7A28F1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79000"/>
            <a:ext cx="823248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600200"/>
            <a:ext cx="82324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57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5400" y="6243120"/>
            <a:ext cx="213660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2640" y="6243120"/>
            <a:ext cx="2898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1280" y="6243120"/>
            <a:ext cx="213660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356AE-B75A-4789-B02E-FA70D9A694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Basic Motor Contro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VVV2011 Tutoria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Lorenzo Natal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3"/>
          <p:cNvSpPr/>
          <p:nvPr/>
        </p:nvSpPr>
        <p:spPr>
          <a:xfrm>
            <a:off x="2281320" y="1581120"/>
            <a:ext cx="1393920" cy="10875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6008760" y="1549440"/>
            <a:ext cx="1393920" cy="1089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0"/>
          <p:cNvSpPr/>
          <p:nvPr/>
        </p:nvSpPr>
        <p:spPr>
          <a:xfrm>
            <a:off x="4222440" y="2400480"/>
            <a:ext cx="149436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t pos 0 1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t vel 1 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get enc 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ight Arrow 12"/>
          <p:cNvSpPr/>
          <p:nvPr/>
        </p:nvSpPr>
        <p:spPr>
          <a:xfrm>
            <a:off x="3819600" y="2017800"/>
            <a:ext cx="2138400" cy="411120"/>
          </a:xfrm>
          <a:prstGeom prst="rightArrow">
            <a:avLst>
              <a:gd name="adj1" fmla="val 50000"/>
              <a:gd name="adj2" fmla="val 49943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ight Arrow 13"/>
          <p:cNvSpPr/>
          <p:nvPr/>
        </p:nvSpPr>
        <p:spPr>
          <a:xfrm rot="10800000">
            <a:off x="3816000" y="1647720"/>
            <a:ext cx="2141640" cy="409680"/>
          </a:xfrm>
          <a:prstGeom prst="rightArrow">
            <a:avLst>
              <a:gd name="adj1" fmla="val 50000"/>
              <a:gd name="adj2" fmla="val 50098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4"/>
          <p:cNvSpPr/>
          <p:nvPr/>
        </p:nvSpPr>
        <p:spPr>
          <a:xfrm>
            <a:off x="4209120" y="969840"/>
            <a:ext cx="10112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nc is 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ck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5"/>
          <p:cNvSpPr/>
          <p:nvPr/>
        </p:nvSpPr>
        <p:spPr>
          <a:xfrm>
            <a:off x="1394280" y="1009800"/>
            <a:ext cx="24073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emote_controlboar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6"/>
          <p:cNvSpPr/>
          <p:nvPr/>
        </p:nvSpPr>
        <p:spPr>
          <a:xfrm>
            <a:off x="6026400" y="1025640"/>
            <a:ext cx="23266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rver_controlboar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7"/>
          <p:cNvSpPr/>
          <p:nvPr/>
        </p:nvSpPr>
        <p:spPr>
          <a:xfrm>
            <a:off x="5778360" y="609480"/>
            <a:ext cx="2959200" cy="34689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8"/>
          <p:cNvSpPr/>
          <p:nvPr/>
        </p:nvSpPr>
        <p:spPr>
          <a:xfrm>
            <a:off x="5791680" y="225360"/>
            <a:ext cx="17611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imulator/iCub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9"/>
          <p:cNvSpPr/>
          <p:nvPr/>
        </p:nvSpPr>
        <p:spPr>
          <a:xfrm>
            <a:off x="1871640" y="4240080"/>
            <a:ext cx="307620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/client/left_arm/rpc: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/client/left_arm/state: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/client/left_arm/command: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0"/>
          <p:cNvSpPr/>
          <p:nvPr/>
        </p:nvSpPr>
        <p:spPr>
          <a:xfrm>
            <a:off x="5690520" y="4240080"/>
            <a:ext cx="342396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/iCubSim/left_arm/rpc: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/iCubSim/left_arm/state: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/iCubSim/left_arm/command: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1"/>
          <p:cNvSpPr/>
          <p:nvPr/>
        </p:nvSpPr>
        <p:spPr>
          <a:xfrm>
            <a:off x="804240" y="1411200"/>
            <a:ext cx="144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osition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Velocity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Enco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2"/>
          <p:cNvSpPr/>
          <p:nvPr/>
        </p:nvSpPr>
        <p:spPr>
          <a:xfrm>
            <a:off x="561960" y="457200"/>
            <a:ext cx="12794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User cod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>
            <a:off x="552600" y="969840"/>
            <a:ext cx="3395520" cy="29498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4"/>
          <p:cNvSpPr/>
          <p:nvPr/>
        </p:nvSpPr>
        <p:spPr>
          <a:xfrm>
            <a:off x="2240640" y="1582560"/>
            <a:ext cx="135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itionMov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tEncoders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9000"/>
            <a:ext cx="823248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olyDriver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5049720" y="1792440"/>
            <a:ext cx="2729160" cy="3135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6365880" y="2873520"/>
            <a:ext cx="1249200" cy="14954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5962680" y="1830240"/>
            <a:ext cx="12916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olyDriv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6571440" y="2944800"/>
            <a:ext cx="981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viceDriv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1"/>
          <p:cNvSpPr/>
          <p:nvPr/>
        </p:nvSpPr>
        <p:spPr>
          <a:xfrm>
            <a:off x="2135520" y="2387520"/>
            <a:ext cx="16833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pen(params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Straight Arrow Connector 13"/>
          <p:cNvCxnSpPr/>
          <p:nvPr/>
        </p:nvCxnSpPr>
        <p:spPr>
          <a:xfrm>
            <a:off x="4064040" y="2558520"/>
            <a:ext cx="1543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6" name="Straight Arrow Connector 14"/>
          <p:cNvCxnSpPr/>
          <p:nvPr/>
        </p:nvCxnSpPr>
        <p:spPr>
          <a:xfrm>
            <a:off x="4041360" y="4601880"/>
            <a:ext cx="154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" name="TextBox 15"/>
          <p:cNvSpPr/>
          <p:nvPr/>
        </p:nvSpPr>
        <p:spPr>
          <a:xfrm>
            <a:off x="2044800" y="4376880"/>
            <a:ext cx="9046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lose(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Straight Arrow Connector 17"/>
          <p:cNvCxnSpPr/>
          <p:nvPr/>
        </p:nvCxnSpPr>
        <p:spPr>
          <a:xfrm flipH="1">
            <a:off x="4025520" y="2987280"/>
            <a:ext cx="1567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9" name="TextBox 21"/>
          <p:cNvSpPr/>
          <p:nvPr/>
        </p:nvSpPr>
        <p:spPr>
          <a:xfrm>
            <a:off x="1952280" y="2809800"/>
            <a:ext cx="18831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view(interface1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22"/>
          <p:cNvSpPr/>
          <p:nvPr/>
        </p:nvSpPr>
        <p:spPr>
          <a:xfrm>
            <a:off x="1952280" y="3222720"/>
            <a:ext cx="18831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view(interface2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9"/>
          <p:cNvSpPr/>
          <p:nvPr/>
        </p:nvSpPr>
        <p:spPr>
          <a:xfrm>
            <a:off x="6367680" y="3135240"/>
            <a:ext cx="717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n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os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Straight Arrow Connector 35"/>
          <p:cNvCxnSpPr/>
          <p:nvPr/>
        </p:nvCxnSpPr>
        <p:spPr>
          <a:xfrm>
            <a:off x="3859200" y="3858840"/>
            <a:ext cx="2364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3" name="TextBox 36"/>
          <p:cNvSpPr/>
          <p:nvPr/>
        </p:nvSpPr>
        <p:spPr>
          <a:xfrm>
            <a:off x="1950840" y="3622680"/>
            <a:ext cx="17352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Use interface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37"/>
          <p:cNvSpPr/>
          <p:nvPr/>
        </p:nvSpPr>
        <p:spPr>
          <a:xfrm>
            <a:off x="1950840" y="3987720"/>
            <a:ext cx="17352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Use interface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Straight Arrow Connector 38"/>
          <p:cNvCxnSpPr/>
          <p:nvPr/>
        </p:nvCxnSpPr>
        <p:spPr>
          <a:xfrm>
            <a:off x="3871800" y="4130280"/>
            <a:ext cx="2363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6" name="Rectangle 39"/>
          <p:cNvSpPr/>
          <p:nvPr/>
        </p:nvSpPr>
        <p:spPr>
          <a:xfrm>
            <a:off x="1828800" y="1862280"/>
            <a:ext cx="22795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User Cod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3"/>
          <p:cNvSpPr/>
          <p:nvPr/>
        </p:nvSpPr>
        <p:spPr>
          <a:xfrm>
            <a:off x="1793880" y="1793880"/>
            <a:ext cx="2433600" cy="3313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Straight Arrow Connector 52"/>
          <p:cNvCxnSpPr/>
          <p:nvPr/>
        </p:nvCxnSpPr>
        <p:spPr>
          <a:xfrm flipH="1">
            <a:off x="4034880" y="3447720"/>
            <a:ext cx="1533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760" y="279000"/>
            <a:ext cx="823248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Motor Control Tutoria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5760" y="1600200"/>
            <a:ext cx="82324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Motor Control Interfac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PolyDriver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traight Connector 121"/>
          <p:cNvSpPr/>
          <p:nvPr/>
        </p:nvSpPr>
        <p:spPr>
          <a:xfrm>
            <a:off x="4275000" y="5735520"/>
            <a:ext cx="2095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traight Connector 112"/>
          <p:cNvSpPr/>
          <p:nvPr/>
        </p:nvSpPr>
        <p:spPr>
          <a:xfrm>
            <a:off x="4257720" y="4361040"/>
            <a:ext cx="2095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77"/>
          <p:cNvSpPr/>
          <p:nvPr/>
        </p:nvSpPr>
        <p:spPr>
          <a:xfrm>
            <a:off x="4294080" y="5607000"/>
            <a:ext cx="300240" cy="225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1866960" y="925560"/>
            <a:ext cx="2801880" cy="1989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Straight Arrow Connector 11"/>
          <p:cNvCxnSpPr/>
          <p:nvPr/>
        </p:nvCxnSpPr>
        <p:spPr>
          <a:xfrm>
            <a:off x="1866600" y="925200"/>
            <a:ext cx="1053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6" name="Straight Arrow Connector 12"/>
          <p:cNvCxnSpPr/>
          <p:nvPr/>
        </p:nvCxnSpPr>
        <p:spPr>
          <a:xfrm>
            <a:off x="1874520" y="925560"/>
            <a:ext cx="1080" cy="6688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87" name="Group 50"/>
          <p:cNvGrpSpPr/>
          <p:nvPr/>
        </p:nvGrpSpPr>
        <p:grpSpPr>
          <a:xfrm>
            <a:off x="3178080" y="1794960"/>
            <a:ext cx="1053000" cy="668880"/>
            <a:chOff x="3178080" y="1794960"/>
            <a:chExt cx="1053000" cy="668880"/>
          </a:xfrm>
        </p:grpSpPr>
        <p:cxnSp>
          <p:nvCxnSpPr>
            <p:cNvPr id="88" name="Straight Arrow Connector 15"/>
            <p:cNvCxnSpPr/>
            <p:nvPr/>
          </p:nvCxnSpPr>
          <p:spPr>
            <a:xfrm>
              <a:off x="3178080" y="1794960"/>
              <a:ext cx="10533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89" name="Straight Arrow Connector 16"/>
            <p:cNvCxnSpPr/>
            <p:nvPr/>
          </p:nvCxnSpPr>
          <p:spPr>
            <a:xfrm>
              <a:off x="3184920" y="1794960"/>
              <a:ext cx="1080" cy="6692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90" name="TextBox 19"/>
          <p:cNvSpPr/>
          <p:nvPr/>
        </p:nvSpPr>
        <p:spPr>
          <a:xfrm>
            <a:off x="1870920" y="530280"/>
            <a:ext cx="4885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x,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110"/>
          <p:cNvGrpSpPr/>
          <p:nvPr/>
        </p:nvGrpSpPr>
        <p:grpSpPr>
          <a:xfrm>
            <a:off x="4013640" y="3628440"/>
            <a:ext cx="3112920" cy="2125800"/>
            <a:chOff x="4013640" y="3628440"/>
            <a:chExt cx="3112920" cy="2125800"/>
          </a:xfrm>
        </p:grpSpPr>
        <p:sp>
          <p:nvSpPr>
            <p:cNvPr id="92" name="Straight Connector 76"/>
            <p:cNvSpPr/>
            <p:nvPr/>
          </p:nvSpPr>
          <p:spPr>
            <a:xfrm>
              <a:off x="4402080" y="4402440"/>
              <a:ext cx="41760" cy="134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" name="Group 109"/>
            <p:cNvGrpSpPr/>
            <p:nvPr/>
          </p:nvGrpSpPr>
          <p:grpSpPr>
            <a:xfrm>
              <a:off x="4013640" y="3628440"/>
              <a:ext cx="3112920" cy="861480"/>
              <a:chOff x="4013640" y="3628440"/>
              <a:chExt cx="3112920" cy="861480"/>
            </a:xfrm>
          </p:grpSpPr>
          <p:sp>
            <p:nvSpPr>
              <p:cNvPr id="94" name="Straight Connector 70"/>
              <p:cNvSpPr/>
              <p:nvPr/>
            </p:nvSpPr>
            <p:spPr>
              <a:xfrm flipV="1">
                <a:off x="4068720" y="3628440"/>
                <a:ext cx="3057840" cy="77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Rectangle 73"/>
              <p:cNvSpPr/>
              <p:nvPr/>
            </p:nvSpPr>
            <p:spPr>
              <a:xfrm rot="20750400">
                <a:off x="4023000" y="4236480"/>
                <a:ext cx="717120" cy="168120"/>
              </a:xfrm>
              <a:prstGeom prst="rect">
                <a:avLst/>
              </a:prstGeom>
              <a:solidFill>
                <a:srgbClr val="59595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Rectangle 74"/>
            <p:cNvSpPr/>
            <p:nvPr/>
          </p:nvSpPr>
          <p:spPr>
            <a:xfrm rot="21498000">
              <a:off x="4335120" y="5352480"/>
              <a:ext cx="203040" cy="398520"/>
            </a:xfrm>
            <a:prstGeom prst="rect">
              <a:avLst/>
            </a:prstGeom>
            <a:solidFill>
              <a:srgbClr val="59595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Arc 118"/>
          <p:cNvSpPr/>
          <p:nvPr/>
        </p:nvSpPr>
        <p:spPr>
          <a:xfrm rot="2313600">
            <a:off x="4797360" y="4052880"/>
            <a:ext cx="436680" cy="388800"/>
          </a:xfrm>
          <a:custGeom>
            <a:avLst/>
            <a:gdLst/>
            <a:ahLst/>
            <a:rect l="l" t="t" r="r" b="b"/>
            <a:pathLst>
              <a:path stroke="0" w="436563" h="388937">
                <a:moveTo>
                  <a:pt x="218281" y="0"/>
                </a:moveTo>
                <a:cubicBezTo>
                  <a:pt x="338835" y="0"/>
                  <a:pt x="436563" y="87067"/>
                  <a:pt x="436563" y="194469"/>
                </a:cubicBezTo>
                <a:lnTo>
                  <a:pt x="218282" y="194469"/>
                </a:lnTo>
                <a:cubicBezTo>
                  <a:pt x="218282" y="129646"/>
                  <a:pt x="218281" y="64823"/>
                  <a:pt x="218281" y="0"/>
                </a:cubicBezTo>
                <a:close/>
              </a:path>
              <a:path fill="none" w="436563" h="388937">
                <a:moveTo>
                  <a:pt x="218281" y="0"/>
                </a:moveTo>
                <a:cubicBezTo>
                  <a:pt x="338835" y="0"/>
                  <a:pt x="436563" y="87067"/>
                  <a:pt x="436563" y="19446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19"/>
          <p:cNvSpPr/>
          <p:nvPr/>
        </p:nvSpPr>
        <p:spPr>
          <a:xfrm>
            <a:off x="5194800" y="40608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Multiply 120"/>
          <p:cNvSpPr/>
          <p:nvPr/>
        </p:nvSpPr>
        <p:spPr>
          <a:xfrm>
            <a:off x="6581880" y="3232080"/>
            <a:ext cx="326880" cy="327240"/>
          </a:xfrm>
          <a:custGeom>
            <a:avLst/>
            <a:gdLst/>
            <a:ahLst/>
            <a:rect l="l" t="t" r="r" b="b"/>
            <a:pathLst>
              <a:path w="327025" h="327025">
                <a:moveTo>
                  <a:pt x="51349" y="105737"/>
                </a:moveTo>
                <a:lnTo>
                  <a:pt x="105737" y="51349"/>
                </a:lnTo>
                <a:lnTo>
                  <a:pt x="163513" y="109124"/>
                </a:lnTo>
                <a:lnTo>
                  <a:pt x="221288" y="51349"/>
                </a:lnTo>
                <a:lnTo>
                  <a:pt x="275676" y="105737"/>
                </a:lnTo>
                <a:lnTo>
                  <a:pt x="217901" y="163513"/>
                </a:lnTo>
                <a:lnTo>
                  <a:pt x="275676" y="221288"/>
                </a:lnTo>
                <a:lnTo>
                  <a:pt x="221288" y="275676"/>
                </a:lnTo>
                <a:lnTo>
                  <a:pt x="163513" y="217901"/>
                </a:lnTo>
                <a:lnTo>
                  <a:pt x="105737" y="275676"/>
                </a:lnTo>
                <a:lnTo>
                  <a:pt x="51349" y="221288"/>
                </a:lnTo>
                <a:lnTo>
                  <a:pt x="109124" y="163513"/>
                </a:lnTo>
                <a:lnTo>
                  <a:pt x="51349" y="105737"/>
                </a:lnTo>
                <a:close/>
              </a:path>
            </a:pathLst>
          </a:custGeom>
          <a:solidFill>
            <a:srgbClr val="cc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rc 122"/>
          <p:cNvSpPr/>
          <p:nvPr/>
        </p:nvSpPr>
        <p:spPr>
          <a:xfrm rot="5400000">
            <a:off x="3683520" y="4882320"/>
            <a:ext cx="1439640" cy="1562040"/>
          </a:xfrm>
          <a:custGeom>
            <a:avLst/>
            <a:gdLst/>
            <a:ahLst/>
            <a:rect l="l" t="t" r="r" b="b"/>
            <a:pathLst>
              <a:path stroke="0" w="1439863" h="1562100">
                <a:moveTo>
                  <a:pt x="3614" y="702887"/>
                </a:moveTo>
                <a:cubicBezTo>
                  <a:pt x="43647" y="271070"/>
                  <a:pt x="400489" y="-42531"/>
                  <a:pt x="798156" y="4624"/>
                </a:cubicBezTo>
                <a:lnTo>
                  <a:pt x="719932" y="781050"/>
                </a:lnTo>
                <a:lnTo>
                  <a:pt x="3614" y="702887"/>
                </a:lnTo>
                <a:close/>
              </a:path>
              <a:path fill="none" w="1439863" h="1562100">
                <a:moveTo>
                  <a:pt x="3614" y="702887"/>
                </a:moveTo>
                <a:cubicBezTo>
                  <a:pt x="43647" y="271070"/>
                  <a:pt x="400489" y="-42531"/>
                  <a:pt x="798156" y="4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23"/>
          <p:cNvSpPr/>
          <p:nvPr/>
        </p:nvSpPr>
        <p:spPr>
          <a:xfrm>
            <a:off x="4977360" y="50180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842760" y="3673440"/>
            <a:ext cx="2291040" cy="2000160"/>
            <a:chOff x="842760" y="3673440"/>
            <a:chExt cx="2291040" cy="2000160"/>
          </a:xfrm>
        </p:grpSpPr>
        <p:sp>
          <p:nvSpPr>
            <p:cNvPr id="103" name="Straight Connector 23"/>
            <p:cNvSpPr/>
            <p:nvPr/>
          </p:nvSpPr>
          <p:spPr>
            <a:xfrm flipV="1">
              <a:off x="987480" y="3773160"/>
              <a:ext cx="1698480" cy="1668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Straight Connector 25"/>
            <p:cNvSpPr/>
            <p:nvPr/>
          </p:nvSpPr>
          <p:spPr>
            <a:xfrm flipH="1" flipV="1">
              <a:off x="2685600" y="3773160"/>
              <a:ext cx="232200" cy="1668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Straight Connector 31"/>
            <p:cNvSpPr/>
            <p:nvPr/>
          </p:nvSpPr>
          <p:spPr>
            <a:xfrm>
              <a:off x="987480" y="5442120"/>
              <a:ext cx="1930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 rot="2613000">
              <a:off x="1010880" y="5059440"/>
              <a:ext cx="191880" cy="565200"/>
            </a:xfrm>
            <a:prstGeom prst="rect">
              <a:avLst/>
            </a:prstGeom>
            <a:solidFill>
              <a:srgbClr val="59595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35"/>
            <p:cNvSpPr/>
            <p:nvPr/>
          </p:nvSpPr>
          <p:spPr>
            <a:xfrm rot="21257400">
              <a:off x="2786040" y="5035320"/>
              <a:ext cx="191880" cy="565200"/>
            </a:xfrm>
            <a:prstGeom prst="rect">
              <a:avLst/>
            </a:prstGeom>
            <a:solidFill>
              <a:srgbClr val="59595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Straight Connector 38"/>
            <p:cNvSpPr/>
            <p:nvPr/>
          </p:nvSpPr>
          <p:spPr>
            <a:xfrm flipH="1">
              <a:off x="1890360" y="3773520"/>
              <a:ext cx="795600" cy="166860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rc 40"/>
            <p:cNvSpPr/>
            <p:nvPr/>
          </p:nvSpPr>
          <p:spPr>
            <a:xfrm>
              <a:off x="1836720" y="5210280"/>
              <a:ext cx="419040" cy="463320"/>
            </a:xfrm>
            <a:custGeom>
              <a:avLst/>
              <a:gdLst/>
              <a:ahLst/>
              <a:rect l="l" t="t" r="r" b="b"/>
              <a:pathLst>
                <a:path stroke="0" w="419038" h="463750">
                  <a:moveTo>
                    <a:pt x="209519" y="0"/>
                  </a:moveTo>
                  <a:cubicBezTo>
                    <a:pt x="325233" y="0"/>
                    <a:pt x="419038" y="103814"/>
                    <a:pt x="419038" y="231875"/>
                  </a:cubicBezTo>
                  <a:lnTo>
                    <a:pt x="209519" y="231875"/>
                  </a:lnTo>
                  <a:lnTo>
                    <a:pt x="209519" y="0"/>
                  </a:lnTo>
                  <a:close/>
                </a:path>
                <a:path fill="none" w="419038" h="463750">
                  <a:moveTo>
                    <a:pt x="209519" y="0"/>
                  </a:moveTo>
                  <a:cubicBezTo>
                    <a:pt x="325233" y="0"/>
                    <a:pt x="419038" y="103814"/>
                    <a:pt x="419038" y="23187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Arc 41"/>
            <p:cNvSpPr/>
            <p:nvPr/>
          </p:nvSpPr>
          <p:spPr>
            <a:xfrm rot="9700200">
              <a:off x="2428560" y="3780720"/>
              <a:ext cx="488880" cy="393480"/>
            </a:xfrm>
            <a:custGeom>
              <a:avLst/>
              <a:gdLst/>
              <a:ahLst/>
              <a:rect l="l" t="t" r="r" b="b"/>
              <a:pathLst>
                <a:path stroke="0" w="488878" h="393870">
                  <a:moveTo>
                    <a:pt x="244439" y="0"/>
                  </a:moveTo>
                  <a:cubicBezTo>
                    <a:pt x="379439" y="0"/>
                    <a:pt x="488878" y="88171"/>
                    <a:pt x="488878" y="196935"/>
                  </a:cubicBezTo>
                  <a:lnTo>
                    <a:pt x="244439" y="196935"/>
                  </a:lnTo>
                  <a:lnTo>
                    <a:pt x="244439" y="0"/>
                  </a:lnTo>
                  <a:close/>
                </a:path>
                <a:path fill="none" w="488878" h="393870">
                  <a:moveTo>
                    <a:pt x="244439" y="0"/>
                  </a:moveTo>
                  <a:cubicBezTo>
                    <a:pt x="379439" y="0"/>
                    <a:pt x="488878" y="88171"/>
                    <a:pt x="488878" y="19693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Box 42"/>
            <p:cNvSpPr/>
            <p:nvPr/>
          </p:nvSpPr>
          <p:spPr>
            <a:xfrm>
              <a:off x="2107440" y="506556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Box 43"/>
            <p:cNvSpPr/>
            <p:nvPr/>
          </p:nvSpPr>
          <p:spPr>
            <a:xfrm>
              <a:off x="2405880" y="423576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Multiply 46"/>
            <p:cNvSpPr/>
            <p:nvPr/>
          </p:nvSpPr>
          <p:spPr>
            <a:xfrm>
              <a:off x="2806920" y="3673440"/>
              <a:ext cx="326880" cy="325440"/>
            </a:xfrm>
            <a:custGeom>
              <a:avLst/>
              <a:gdLst/>
              <a:ahLst/>
              <a:rect l="l" t="t" r="r" b="b"/>
              <a:pathLst>
                <a:path w="326977" h="325578">
                  <a:moveTo>
                    <a:pt x="51516" y="105327"/>
                  </a:moveTo>
                  <a:lnTo>
                    <a:pt x="105547" y="51064"/>
                  </a:lnTo>
                  <a:lnTo>
                    <a:pt x="163489" y="108757"/>
                  </a:lnTo>
                  <a:lnTo>
                    <a:pt x="221430" y="51064"/>
                  </a:lnTo>
                  <a:lnTo>
                    <a:pt x="275461" y="105327"/>
                  </a:lnTo>
                  <a:lnTo>
                    <a:pt x="217752" y="162789"/>
                  </a:lnTo>
                  <a:lnTo>
                    <a:pt x="275461" y="220251"/>
                  </a:lnTo>
                  <a:lnTo>
                    <a:pt x="221430" y="274514"/>
                  </a:lnTo>
                  <a:lnTo>
                    <a:pt x="163489" y="216821"/>
                  </a:lnTo>
                  <a:lnTo>
                    <a:pt x="105547" y="274514"/>
                  </a:lnTo>
                  <a:lnTo>
                    <a:pt x="51516" y="220251"/>
                  </a:lnTo>
                  <a:lnTo>
                    <a:pt x="109225" y="162789"/>
                  </a:lnTo>
                  <a:lnTo>
                    <a:pt x="51516" y="105327"/>
                  </a:lnTo>
                  <a:close/>
                </a:path>
              </a:pathLst>
            </a:custGeom>
            <a:solidFill>
              <a:srgbClr val="cc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124"/>
            <p:cNvSpPr/>
            <p:nvPr/>
          </p:nvSpPr>
          <p:spPr>
            <a:xfrm>
              <a:off x="1758240" y="5341320"/>
              <a:ext cx="284760" cy="24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25"/>
          <p:cNvSpPr/>
          <p:nvPr/>
        </p:nvSpPr>
        <p:spPr>
          <a:xfrm>
            <a:off x="5811120" y="1346040"/>
            <a:ext cx="141228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v4=+/- k*x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v3=+/- k*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v0=+/- k*q3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v2=+/- k*q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rc 2"/>
          <p:cNvSpPr/>
          <p:nvPr/>
        </p:nvSpPr>
        <p:spPr>
          <a:xfrm rot="21359400">
            <a:off x="4091040" y="5270040"/>
            <a:ext cx="662040" cy="260280"/>
          </a:xfrm>
          <a:custGeom>
            <a:avLst/>
            <a:gdLst/>
            <a:ahLst/>
            <a:rect l="l" t="t" r="r" b="b"/>
            <a:pathLst>
              <a:path stroke="0" w="661987" h="260350">
                <a:moveTo>
                  <a:pt x="217514" y="7890"/>
                </a:moveTo>
                <a:cubicBezTo>
                  <a:pt x="288096" y="-2241"/>
                  <a:pt x="365343" y="-2626"/>
                  <a:pt x="436555" y="6798"/>
                </a:cubicBezTo>
                <a:cubicBezTo>
                  <a:pt x="705914" y="42445"/>
                  <a:pt x="743319" y="186229"/>
                  <a:pt x="497895" y="242589"/>
                </a:cubicBezTo>
                <a:cubicBezTo>
                  <a:pt x="427620" y="258727"/>
                  <a:pt x="344692" y="264118"/>
                  <a:pt x="264950" y="257732"/>
                </a:cubicBezTo>
                <a:cubicBezTo>
                  <a:pt x="9015" y="237236"/>
                  <a:pt x="-88553" y="113691"/>
                  <a:pt x="92823" y="39777"/>
                </a:cubicBezTo>
                <a:lnTo>
                  <a:pt x="330994" y="130175"/>
                </a:lnTo>
                <a:lnTo>
                  <a:pt x="217514" y="7890"/>
                </a:lnTo>
                <a:close/>
              </a:path>
              <a:path fill="none" w="661987" h="260350">
                <a:moveTo>
                  <a:pt x="217514" y="7890"/>
                </a:moveTo>
                <a:cubicBezTo>
                  <a:pt x="288096" y="-2241"/>
                  <a:pt x="365343" y="-2626"/>
                  <a:pt x="436555" y="6798"/>
                </a:cubicBezTo>
                <a:cubicBezTo>
                  <a:pt x="705914" y="42445"/>
                  <a:pt x="743319" y="186229"/>
                  <a:pt x="497895" y="242589"/>
                </a:cubicBezTo>
                <a:cubicBezTo>
                  <a:pt x="427620" y="258727"/>
                  <a:pt x="344692" y="264118"/>
                  <a:pt x="264950" y="257732"/>
                </a:cubicBezTo>
                <a:cubicBezTo>
                  <a:pt x="9015" y="237236"/>
                  <a:pt x="-88553" y="113691"/>
                  <a:pt x="92823" y="3977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39"/>
          <p:cNvSpPr/>
          <p:nvPr/>
        </p:nvSpPr>
        <p:spPr>
          <a:xfrm>
            <a:off x="3861360" y="50752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Multiply 44"/>
          <p:cNvSpPr/>
          <p:nvPr/>
        </p:nvSpPr>
        <p:spPr>
          <a:xfrm>
            <a:off x="3705120" y="1224000"/>
            <a:ext cx="327240" cy="325440"/>
          </a:xfrm>
          <a:custGeom>
            <a:avLst/>
            <a:gdLst/>
            <a:ahLst/>
            <a:rect l="l" t="t" r="r" b="b"/>
            <a:pathLst>
              <a:path w="327025" h="325437">
                <a:moveTo>
                  <a:pt x="51547" y="105290"/>
                </a:moveTo>
                <a:lnTo>
                  <a:pt x="105539" y="51034"/>
                </a:lnTo>
                <a:lnTo>
                  <a:pt x="163513" y="108726"/>
                </a:lnTo>
                <a:lnTo>
                  <a:pt x="221486" y="51034"/>
                </a:lnTo>
                <a:lnTo>
                  <a:pt x="275478" y="105290"/>
                </a:lnTo>
                <a:lnTo>
                  <a:pt x="217769" y="162719"/>
                </a:lnTo>
                <a:lnTo>
                  <a:pt x="275478" y="220147"/>
                </a:lnTo>
                <a:lnTo>
                  <a:pt x="221486" y="274403"/>
                </a:lnTo>
                <a:lnTo>
                  <a:pt x="163513" y="216711"/>
                </a:lnTo>
                <a:lnTo>
                  <a:pt x="105539" y="274403"/>
                </a:lnTo>
                <a:lnTo>
                  <a:pt x="51547" y="220147"/>
                </a:lnTo>
                <a:lnTo>
                  <a:pt x="109256" y="162719"/>
                </a:lnTo>
                <a:lnTo>
                  <a:pt x="51547" y="105290"/>
                </a:lnTo>
                <a:close/>
              </a:path>
            </a:pathLst>
          </a:custGeom>
          <a:solidFill>
            <a:srgbClr val="cc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601560" y="1596960"/>
            <a:ext cx="21636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/icubSim/cam/righ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5946120" y="839880"/>
            <a:ext cx="18554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/viewer/cam/lef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5698080" y="1708200"/>
            <a:ext cx="20034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/viewer/cam/righ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727200" y="3678120"/>
            <a:ext cx="29286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/objectDetector/image/ou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723600" y="4276800"/>
            <a:ext cx="24865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/objectDetector/targe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0"/>
          <p:cNvSpPr/>
          <p:nvPr/>
        </p:nvSpPr>
        <p:spPr>
          <a:xfrm>
            <a:off x="726480" y="3205080"/>
            <a:ext cx="27806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/objectDetector/image/i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1"/>
          <p:cNvSpPr/>
          <p:nvPr/>
        </p:nvSpPr>
        <p:spPr>
          <a:xfrm>
            <a:off x="5888520" y="3284640"/>
            <a:ext cx="16545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/viewer/objec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Straight Arrow Connector 13"/>
          <p:cNvCxnSpPr/>
          <p:nvPr/>
        </p:nvCxnSpPr>
        <p:spPr>
          <a:xfrm>
            <a:off x="2743200" y="1876320"/>
            <a:ext cx="2791440" cy="3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7" name="Rectangle 14"/>
          <p:cNvSpPr/>
          <p:nvPr/>
        </p:nvSpPr>
        <p:spPr>
          <a:xfrm>
            <a:off x="600480" y="1135080"/>
            <a:ext cx="20156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/icubSim/cam/lef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Straight Arrow Connector 16"/>
          <p:cNvCxnSpPr>
            <a:stCxn id="127" idx="3"/>
            <a:endCxn id="120" idx="1"/>
          </p:cNvCxnSpPr>
          <p:nvPr/>
        </p:nvCxnSpPr>
        <p:spPr>
          <a:xfrm flipV="1">
            <a:off x="2628720" y="1031040"/>
            <a:ext cx="3305880" cy="296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9" name="Straight Arrow Connector 18"/>
          <p:cNvCxnSpPr/>
          <p:nvPr/>
        </p:nvCxnSpPr>
        <p:spPr>
          <a:xfrm>
            <a:off x="2327400" y="2154240"/>
            <a:ext cx="116640" cy="98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0" name="Straight Arrow Connector 20"/>
          <p:cNvCxnSpPr>
            <a:stCxn id="122" idx="3"/>
          </p:cNvCxnSpPr>
          <p:nvPr/>
        </p:nvCxnSpPr>
        <p:spPr>
          <a:xfrm flipV="1">
            <a:off x="3676680" y="3499920"/>
            <a:ext cx="2062440" cy="37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1" name="Rectangle 33"/>
          <p:cNvSpPr/>
          <p:nvPr/>
        </p:nvSpPr>
        <p:spPr>
          <a:xfrm>
            <a:off x="268200" y="725400"/>
            <a:ext cx="2395800" cy="13399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34"/>
          <p:cNvSpPr/>
          <p:nvPr/>
        </p:nvSpPr>
        <p:spPr>
          <a:xfrm>
            <a:off x="276840" y="316080"/>
            <a:ext cx="11592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imulato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7"/>
          <p:cNvSpPr/>
          <p:nvPr/>
        </p:nvSpPr>
        <p:spPr>
          <a:xfrm>
            <a:off x="457200" y="3027240"/>
            <a:ext cx="3373560" cy="23180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3"/>
          <p:cNvSpPr/>
          <p:nvPr/>
        </p:nvSpPr>
        <p:spPr>
          <a:xfrm>
            <a:off x="5827680" y="3100320"/>
            <a:ext cx="2286000" cy="773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4"/>
          <p:cNvSpPr/>
          <p:nvPr/>
        </p:nvSpPr>
        <p:spPr>
          <a:xfrm>
            <a:off x="5680080" y="1628640"/>
            <a:ext cx="2092320" cy="773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5"/>
          <p:cNvSpPr/>
          <p:nvPr/>
        </p:nvSpPr>
        <p:spPr>
          <a:xfrm>
            <a:off x="5848200" y="662040"/>
            <a:ext cx="2286000" cy="7729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3"/>
          <p:cNvSpPr/>
          <p:nvPr/>
        </p:nvSpPr>
        <p:spPr>
          <a:xfrm>
            <a:off x="601560" y="1596960"/>
            <a:ext cx="21636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/icubSim/cam/righ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5946120" y="839880"/>
            <a:ext cx="18554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/viewer/cam/lef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5698080" y="1708200"/>
            <a:ext cx="20034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/viewer/cam/righ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727200" y="3678120"/>
            <a:ext cx="29286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/objectDetector/image/ou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723600" y="4276800"/>
            <a:ext cx="24865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/objectDetector/targe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5808960" y="4592520"/>
            <a:ext cx="22867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/headTracker/targe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0"/>
          <p:cNvSpPr/>
          <p:nvPr/>
        </p:nvSpPr>
        <p:spPr>
          <a:xfrm>
            <a:off x="726480" y="3205080"/>
            <a:ext cx="27806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/objectDetector/image/i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1"/>
          <p:cNvSpPr/>
          <p:nvPr/>
        </p:nvSpPr>
        <p:spPr>
          <a:xfrm>
            <a:off x="5888520" y="3284640"/>
            <a:ext cx="16545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/viewer/objec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Straight Arrow Connector 13"/>
          <p:cNvCxnSpPr/>
          <p:nvPr/>
        </p:nvCxnSpPr>
        <p:spPr>
          <a:xfrm>
            <a:off x="2743200" y="1876320"/>
            <a:ext cx="2791440" cy="3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6" name="Rectangle 14"/>
          <p:cNvSpPr/>
          <p:nvPr/>
        </p:nvSpPr>
        <p:spPr>
          <a:xfrm>
            <a:off x="600480" y="1135080"/>
            <a:ext cx="20156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/icubSim/cam/lef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Straight Arrow Connector 16"/>
          <p:cNvCxnSpPr>
            <a:stCxn id="146" idx="3"/>
            <a:endCxn id="138" idx="1"/>
          </p:cNvCxnSpPr>
          <p:nvPr/>
        </p:nvCxnSpPr>
        <p:spPr>
          <a:xfrm flipV="1">
            <a:off x="2628720" y="1031040"/>
            <a:ext cx="3305880" cy="296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8" name="Straight Arrow Connector 18"/>
          <p:cNvCxnSpPr/>
          <p:nvPr/>
        </p:nvCxnSpPr>
        <p:spPr>
          <a:xfrm>
            <a:off x="2327400" y="2154240"/>
            <a:ext cx="116640" cy="98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9" name="Straight Arrow Connector 20"/>
          <p:cNvCxnSpPr>
            <a:stCxn id="140" idx="3"/>
          </p:cNvCxnSpPr>
          <p:nvPr/>
        </p:nvCxnSpPr>
        <p:spPr>
          <a:xfrm flipV="1">
            <a:off x="3676680" y="3499920"/>
            <a:ext cx="2062440" cy="37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0" name="Straight Arrow Connector 22"/>
          <p:cNvCxnSpPr>
            <a:stCxn id="141" idx="3"/>
          </p:cNvCxnSpPr>
          <p:nvPr/>
        </p:nvCxnSpPr>
        <p:spPr>
          <a:xfrm>
            <a:off x="3227400" y="4468680"/>
            <a:ext cx="2464560" cy="30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1" name="Straight Arrow Connector 29"/>
          <p:cNvCxnSpPr/>
          <p:nvPr/>
        </p:nvCxnSpPr>
        <p:spPr>
          <a:xfrm>
            <a:off x="7157520" y="5374800"/>
            <a:ext cx="173880" cy="521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2" name="Rectangle 33"/>
          <p:cNvSpPr/>
          <p:nvPr/>
        </p:nvSpPr>
        <p:spPr>
          <a:xfrm>
            <a:off x="268200" y="725400"/>
            <a:ext cx="2395800" cy="13399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34"/>
          <p:cNvSpPr/>
          <p:nvPr/>
        </p:nvSpPr>
        <p:spPr>
          <a:xfrm>
            <a:off x="276840" y="316080"/>
            <a:ext cx="11592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imulato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35"/>
          <p:cNvSpPr/>
          <p:nvPr/>
        </p:nvSpPr>
        <p:spPr>
          <a:xfrm>
            <a:off x="6945120" y="5875200"/>
            <a:ext cx="202932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ack to simulato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ead/rpc: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ead/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7"/>
          <p:cNvSpPr/>
          <p:nvPr/>
        </p:nvSpPr>
        <p:spPr>
          <a:xfrm>
            <a:off x="457200" y="3027240"/>
            <a:ext cx="3373560" cy="23180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2"/>
          <p:cNvSpPr/>
          <p:nvPr/>
        </p:nvSpPr>
        <p:spPr>
          <a:xfrm>
            <a:off x="5722920" y="4492800"/>
            <a:ext cx="2286000" cy="7729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3"/>
          <p:cNvSpPr/>
          <p:nvPr/>
        </p:nvSpPr>
        <p:spPr>
          <a:xfrm>
            <a:off x="5827680" y="3100320"/>
            <a:ext cx="2286000" cy="773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4"/>
          <p:cNvSpPr/>
          <p:nvPr/>
        </p:nvSpPr>
        <p:spPr>
          <a:xfrm>
            <a:off x="5680080" y="1628640"/>
            <a:ext cx="2092320" cy="773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5"/>
          <p:cNvSpPr/>
          <p:nvPr/>
        </p:nvSpPr>
        <p:spPr>
          <a:xfrm>
            <a:off x="5848200" y="662040"/>
            <a:ext cx="2286000" cy="7729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at</dc:creator>
  <dc:description/>
  <dc:language>en-US</dc:language>
  <cp:lastModifiedBy>nat</cp:lastModifiedBy>
  <dcterms:modified xsi:type="dcterms:W3CDTF">2011-07-19T21:50:56Z</dcterms:modified>
  <cp:revision>175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